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C69A-C969-43FB-9892-4E07AC7D7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65DA-2A9B-4805-A899-926C82AC4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24CC-E5CC-430E-80EB-7549A435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A93-1639-4A32-A9D4-1DEE48BB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373-E507-43EC-9D94-1A72CD9B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2BF-E44E-449B-887B-07EC66E1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FEE-460B-4DCE-9F1F-32A53465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2FF-F4A3-4581-8446-EF5B50A9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F53-3C82-43A0-9634-47552299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EC4-5DBB-4ACE-9D99-17CE5E41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DF2-AF25-45BD-9245-57A04495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7B6-DA0B-4E76-AFF1-F0D38AF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9C9-1C5E-4906-952F-834993B8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CBA-C332-4327-B836-6CF9C595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7896-8C8B-4A52-BBE8-0F8E9AF27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na Abdelha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na Abdelhale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819520" y="496728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Merna. Tengo 14 años. Estoy feliz y loca. Vivo en New york. Yo tengo tus hermanos. Amo mi amig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3029040" y="320040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es el deberes?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657600" y="31240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am bien. Yo no quiero a ir a tu casa. Nuestra amigos  eres en mi ca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9559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s tú hoy? Yo soy aburrida. ¿puedes tú venir a mi ca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36576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os tenemos matemáticas dede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33412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2578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yo tengo la fiesta. ¿Es todos caminar aquí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95596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373392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somos . Ayat no camina. Ella 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ajar. Tú eres simpático p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30:59Z</dcterms:modified>
  <cp:revision>114</cp:revision>
  <dc:subject/>
  <dc:title>Profile</dc:title>
</cp:coreProperties>
</file>